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3A3-41B3-4715-9121-64E892AF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917-69EB-49C0-BCAE-834DB8E9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EAA-A8E1-4BC2-A068-522106FF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B20-BCA6-447A-8CD7-FA5527D3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914-A6F1-42CF-AFEA-A0FF11EC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CD9-FC9D-4415-A63A-5A0DEEB8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46D-FE68-44A2-AE74-F576183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630-EE2E-4DAB-8CDB-75B6C9E6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8F2-D3DD-4B0F-B4E7-5130D4A6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C17-C1F8-4035-BD4E-E6FD289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B8E-219E-4120-BA7B-B119074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67B-B4C3-47B0-9E3C-68D5AC70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778-C249-4E0A-B76F-E8C027775C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Łącznik prostoliniowy 20"/>
          <p:cNvSpPr/>
          <p:nvPr/>
        </p:nvSpPr>
        <p:spPr>
          <a:xfrm flipV="1">
            <a:off x="4572000" y="691920"/>
            <a:ext cx="287280" cy="12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Łącznik prostoliniowy 20"/>
          <p:cNvSpPr/>
          <p:nvPr/>
        </p:nvSpPr>
        <p:spPr>
          <a:xfrm flipV="1">
            <a:off x="5364000" y="691920"/>
            <a:ext cx="648000" cy="12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upa 56"/>
          <p:cNvGrpSpPr/>
          <p:nvPr/>
        </p:nvGrpSpPr>
        <p:grpSpPr>
          <a:xfrm>
            <a:off x="104760" y="115920"/>
            <a:ext cx="8788320" cy="6121440"/>
            <a:chOff x="104760" y="115920"/>
            <a:chExt cx="8788320" cy="6121440"/>
          </a:xfrm>
        </p:grpSpPr>
        <p:grpSp>
          <p:nvGrpSpPr>
            <p:cNvPr id="44" name="Group 29"/>
            <p:cNvGrpSpPr/>
            <p:nvPr/>
          </p:nvGrpSpPr>
          <p:grpSpPr>
            <a:xfrm>
              <a:off x="104760" y="115920"/>
              <a:ext cx="8714880" cy="6121440"/>
              <a:chOff x="104760" y="115920"/>
              <a:chExt cx="8714880" cy="6121440"/>
            </a:xfrm>
          </p:grpSpPr>
          <p:sp>
            <p:nvSpPr>
              <p:cNvPr id="45" name="AutoShape 33"/>
              <p:cNvSpPr/>
              <p:nvPr/>
            </p:nvSpPr>
            <p:spPr>
              <a:xfrm>
                <a:off x="3213000" y="115920"/>
                <a:ext cx="2362320" cy="749160"/>
              </a:xfrm>
              <a:prstGeom prst="flowChartAlternateProcess">
                <a:avLst/>
              </a:prstGeom>
              <a:solidFill>
                <a:srgbClr val="fac090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Dyrektor Centrum Informatycznego </a:t>
                </a:r>
                <a:br>
                  <a:rPr sz="1200"/>
                </a:b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35"/>
              <p:cNvSpPr/>
              <p:nvPr/>
            </p:nvSpPr>
            <p:spPr>
              <a:xfrm>
                <a:off x="104760" y="1555920"/>
                <a:ext cx="4035240" cy="468144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2cddc"/>
                  </a:gs>
                  <a:gs pos="50000">
                    <a:srgbClr val="4bacc6"/>
                  </a:gs>
                  <a:gs pos="100000">
                    <a:srgbClr val="92cddc"/>
                  </a:gs>
                </a:gsLst>
                <a:lin ang="5400000"/>
              </a:gra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Sekcja ds. Administracji Sieci i Usług Sieciowy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Sieci: MAN, PIONIER, LAN, SKUO, ASKUO, MAN-H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Usługi: www, e-mail, eduroam, klastry obliczeniowe, wideokonferencje, HDTV, Archiwizacja, CAS)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39"/>
              <p:cNvSpPr/>
              <p:nvPr/>
            </p:nvSpPr>
            <p:spPr>
              <a:xfrm>
                <a:off x="4387320" y="1555920"/>
                <a:ext cx="4432320" cy="468144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92cddc"/>
                  </a:gs>
                  <a:gs pos="50000">
                    <a:srgbClr val="4bacc6"/>
                  </a:gs>
                  <a:gs pos="100000">
                    <a:srgbClr val="92cddc"/>
                  </a:gs>
                </a:gsLst>
                <a:lin ang="5400000"/>
              </a:gra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Sekcja ds. Wsparcia i Eksploatacji</a:t>
                </a:r>
                <a:br>
                  <a:rPr sz="1400"/>
                </a:br>
                <a:r>
                  <a:rPr b="1" lang="pl-PL" sz="1400" spc="-1" strike="noStrike">
                    <a:solidFill>
                      <a:srgbClr val="000000"/>
                    </a:solidFill>
                    <a:latin typeface="Calibri"/>
                  </a:rPr>
                  <a:t>Systemów Informatycznyc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Systemy: USOS, IRK, SRS, APD, e-Learning, ANKIETER, ECTS, BWZ, PLANISTA, UL, WF,  Administracja Centralna, SELS, ZSZ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45"/>
              <p:cNvSpPr/>
              <p:nvPr/>
            </p:nvSpPr>
            <p:spPr>
              <a:xfrm>
                <a:off x="183960" y="2924280"/>
                <a:ext cx="1655280" cy="82044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Sieci Rozległych (MAN, WAN)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46"/>
              <p:cNvSpPr/>
              <p:nvPr/>
            </p:nvSpPr>
            <p:spPr>
              <a:xfrm>
                <a:off x="2195280" y="2924280"/>
                <a:ext cx="1774440" cy="80136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Sieci Uczelnianych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(MAN, LAN, WiFi)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AutoShape 47"/>
              <p:cNvSpPr/>
              <p:nvPr/>
            </p:nvSpPr>
            <p:spPr>
              <a:xfrm>
                <a:off x="150480" y="3938760"/>
                <a:ext cx="1641600" cy="83304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Webmaster, Programista Aplikacji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Internetowych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48"/>
              <p:cNvSpPr/>
              <p:nvPr/>
            </p:nvSpPr>
            <p:spPr>
              <a:xfrm>
                <a:off x="2168640" y="3938760"/>
                <a:ext cx="1772640" cy="83304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. Systemów Linuksowych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i usług sieciowych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49"/>
              <p:cNvSpPr/>
              <p:nvPr/>
            </p:nvSpPr>
            <p:spPr>
              <a:xfrm>
                <a:off x="4572000" y="2997000"/>
                <a:ext cx="1753920" cy="80100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Baz Danych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50"/>
              <p:cNvSpPr/>
              <p:nvPr/>
            </p:nvSpPr>
            <p:spPr>
              <a:xfrm>
                <a:off x="4644720" y="4076640"/>
                <a:ext cx="1726920" cy="93636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Wdrożeniowiec  Systemów  Informatycznych/USOS 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52"/>
              <p:cNvSpPr/>
              <p:nvPr/>
            </p:nvSpPr>
            <p:spPr>
              <a:xfrm>
                <a:off x="6516360" y="2997000"/>
                <a:ext cx="1862280" cy="801000"/>
              </a:xfrm>
              <a:prstGeom prst="flowChartAlternateProcess">
                <a:avLst/>
              </a:prstGeom>
              <a:solidFill>
                <a:srgbClr val="b9cde5"/>
              </a:solidFill>
              <a:ln w="12600">
                <a:solidFill>
                  <a:srgbClr val="4bacc6"/>
                </a:solidFill>
                <a:miter/>
              </a:ln>
              <a:effectLst>
                <a:outerShdw dist="17819" dir="2700000" blurRad="0" rotWithShape="0">
                  <a:srgbClr val="2058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Administrator Systemów </a:t>
                </a:r>
                <a:br>
                  <a:rPr sz="1200"/>
                </a:br>
                <a:r>
                  <a:rPr b="0" lang="pl-PL" sz="1200" spc="-1" strike="noStrike">
                    <a:solidFill>
                      <a:srgbClr val="000000"/>
                    </a:solidFill>
                    <a:latin typeface="Calibri"/>
                  </a:rPr>
                  <a:t>i Aplikacji Windows</a:t>
                </a:r>
                <a:br>
                  <a:rPr sz="1200"/>
                </a:b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AutoShape 54"/>
            <p:cNvSpPr/>
            <p:nvPr/>
          </p:nvSpPr>
          <p:spPr>
            <a:xfrm>
              <a:off x="5877000" y="260280"/>
              <a:ext cx="3016080" cy="865080"/>
            </a:xfrm>
            <a:prstGeom prst="flowChartAlternateProcess">
              <a:avLst/>
            </a:prstGeom>
            <a:solidFill>
              <a:srgbClr val="95b3d7"/>
            </a:solidFill>
            <a:ln w="12600">
              <a:solidFill>
                <a:srgbClr val="4bacc6"/>
              </a:solidFill>
              <a:miter/>
            </a:ln>
            <a:effectLst>
              <a:outerShdw dist="17819" dir="2700000" blurRad="0" rotWithShape="0">
                <a:srgbClr val="2058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Specjalista ds. Obsługi Administracyjnej</a:t>
              </a:r>
              <a:br>
                <a:rPr sz="1200"/>
              </a:br>
              <a:r>
                <a:rPr b="0" lang="pl-PL" sz="1200" spc="-1" strike="noStrike">
                  <a:solidFill>
                    <a:srgbClr val="000000"/>
                  </a:solidFill>
                  <a:latin typeface="Calibri"/>
                </a:rPr>
                <a:t> Obsługa administracyjna CI, faktury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AutoShape 50"/>
          <p:cNvSpPr/>
          <p:nvPr/>
        </p:nvSpPr>
        <p:spPr>
          <a:xfrm>
            <a:off x="1187280" y="5013360"/>
            <a:ext cx="1584360" cy="936720"/>
          </a:xfrm>
          <a:prstGeom prst="flowChartAlternateProcess">
            <a:avLst/>
          </a:prstGeom>
          <a:solidFill>
            <a:srgbClr val="b9cde5"/>
          </a:soli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dmin.  Systemów Informatycznych (AS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6588000" y="4005360"/>
            <a:ext cx="1871640" cy="1008000"/>
          </a:xfrm>
          <a:prstGeom prst="flowChartAlternateProcess">
            <a:avLst/>
          </a:prstGeom>
          <a:solidFill>
            <a:srgbClr val="b9cde5"/>
          </a:soli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jalista/Informaty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ogólnouczelniane zakupy  oprogramowania,  szkolenia, pomoc IRK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Łącznik prostoliniowy 10"/>
          <p:cNvSpPr/>
          <p:nvPr/>
        </p:nvSpPr>
        <p:spPr>
          <a:xfrm flipH="1" flipV="1">
            <a:off x="1711080" y="1228320"/>
            <a:ext cx="12600" cy="3286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Łącznik prostoliniowy 14"/>
          <p:cNvSpPr/>
          <p:nvPr/>
        </p:nvSpPr>
        <p:spPr>
          <a:xfrm>
            <a:off x="1692360" y="1268280"/>
            <a:ext cx="536256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Łącznik prostoliniowy 17"/>
          <p:cNvSpPr/>
          <p:nvPr/>
        </p:nvSpPr>
        <p:spPr>
          <a:xfrm>
            <a:off x="7032600" y="1235160"/>
            <a:ext cx="6480" cy="336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Łącznik prostoliniowy 47"/>
          <p:cNvSpPr/>
          <p:nvPr/>
        </p:nvSpPr>
        <p:spPr>
          <a:xfrm>
            <a:off x="4394160" y="866880"/>
            <a:ext cx="17640" cy="4284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2"/>
          <p:cNvSpPr/>
          <p:nvPr/>
        </p:nvSpPr>
        <p:spPr>
          <a:xfrm>
            <a:off x="5724360" y="5157720"/>
            <a:ext cx="1729080" cy="792360"/>
          </a:xfrm>
          <a:prstGeom prst="flowChartAlternateProcess">
            <a:avLst/>
          </a:prstGeom>
          <a:solidFill>
            <a:srgbClr val="b9cde5"/>
          </a:soli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yk, 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S  Helpde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ole tekstowe 28"/>
          <p:cNvSpPr/>
          <p:nvPr/>
        </p:nvSpPr>
        <p:spPr>
          <a:xfrm>
            <a:off x="4211640" y="6453360"/>
            <a:ext cx="475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łącznik nr 2 do Regulaminu Organizacyjnego Centrum Informatyczne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1:35:50Z</dcterms:created>
  <dc:creator>Centrum Informatyczne</dc:creator>
  <dc:description/>
  <dc:language>en-US</dc:language>
  <cp:lastModifiedBy>user</cp:lastModifiedBy>
  <cp:lastPrinted>2015-04-10T08:43:08Z</cp:lastPrinted>
  <dcterms:modified xsi:type="dcterms:W3CDTF">2015-04-10T08:46:05Z</dcterms:modified>
  <cp:revision>30</cp:revision>
  <dc:subject/>
  <dc:title>Slajd 1</dc:title>
</cp:coreProperties>
</file>